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E169-49B1-441E-9191-A22D5F66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B280-CB7A-4430-9246-08F8B8E4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A8049-1105-4AEE-9234-D8CE8A7B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7925-90B8-4FD4-886E-F816119F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A9BC-7256-4DC5-A57B-4FE8B93F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48AA-CA9E-4B9A-B6C4-FE5AD504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A99E-EC03-42D1-9D35-7E7EFFD8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B14D-3622-4B7F-B93F-BD15DAFA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2151-AA35-4125-88E4-AFF11FBB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1C3F-A346-47CB-9E5F-498E9EE2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202F-6147-40AF-BA3C-3457EB16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BE69-76F9-40D6-960E-B4443D5D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B492-E247-43C9-9F60-F9135AE5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E5CF-8036-475B-BFDC-BE0BA4E5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C884-6B6F-4CF6-BDF8-E4B5A6AE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9FE4-FFD9-41C6-B7E0-952C16E6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DEA3-5A78-4DD9-9AFF-F8F75895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53F8-5F46-4FC8-9522-3B5C8379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BD89D-C98D-4423-9372-F66562AC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C957-915C-469E-847C-62DD8601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921D-F28F-4814-9B8A-50FF22B8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4BDF1-66C4-4943-A872-3AF4A4B0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AEEE-BE33-4299-8A47-2DF73A9E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E1322-4137-4C38-84B8-A925E1E6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F74F-C041-4548-B321-66A854A601A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F126-184A-4EE5-86AD-AAA744FADA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cc"/>
                </a:solidFill>
                <a:latin typeface="Showcard Gothic"/>
              </a:rPr>
              <a:t>The American story 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Viner Hand ITC"/>
              </a:rPr>
              <a:t>By: Rondale Sal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8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ident George W. Bush speaks to the 2008 Republican National Convention via video lin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5" descr="Bush-by-Video-GOP-Convention-2SEPT2008.jpg"/>
          <p:cNvPicPr/>
          <p:nvPr/>
        </p:nvPicPr>
        <p:blipFill>
          <a:blip r:embed="rId1"/>
          <a:stretch/>
        </p:blipFill>
        <p:spPr>
          <a:xfrm>
            <a:off x="5029200" y="2262240"/>
            <a:ext cx="41148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China as a World Power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eptember 27, 2008: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Shenzhou 7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, China's third manned space expedition, conducted the first spacewalk for its space progra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200px-Shenzhou_7_Launch,_Jiuquan_Stellite_Launch_Center,_PRChina.jpg"/>
          <p:cNvPicPr/>
          <p:nvPr/>
        </p:nvPicPr>
        <p:blipFill>
          <a:blip r:embed="rId1"/>
          <a:stretch/>
        </p:blipFill>
        <p:spPr>
          <a:xfrm>
            <a:off x="5181480" y="2133720"/>
            <a:ext cx="3962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Presidential Debat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nator John McCain and Senator Barack Obama debate in town hall style at Belmont University on October 7, 200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6" descr="Obama-McCain-Belmont-Debate-7Oct2008.jpg"/>
          <p:cNvPicPr/>
          <p:nvPr/>
        </p:nvPicPr>
        <p:blipFill>
          <a:blip r:embed="rId1"/>
          <a:stretch/>
        </p:blipFill>
        <p:spPr>
          <a:xfrm>
            <a:off x="5448240" y="2209680"/>
            <a:ext cx="3695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cc"/>
                </a:solidFill>
                <a:latin typeface="Tahoma"/>
              </a:rPr>
              <a:t>Baseba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008 World Series: The Philadelphia Phillies Defeated the Tampa Bay Ray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2008-World-Series-Program-Philadelphia-Phillies-vs-Tampa-Bay-Rays.jpg"/>
          <p:cNvPicPr/>
          <p:nvPr/>
        </p:nvPicPr>
        <p:blipFill>
          <a:blip r:embed="rId1"/>
          <a:stretch/>
        </p:blipFill>
        <p:spPr>
          <a:xfrm>
            <a:off x="4876920" y="2362320"/>
            <a:ext cx="358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Tahoma"/>
              </a:rPr>
              <a:t>Barack Obama Sails to Victory</a:t>
            </a:r>
            <a:r>
              <a:rPr b="0" lang="en-US" sz="4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November 4, 2008: Senator Barack H. Obama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was elected President of the United Stat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obama-hope-193x300.jpg"/>
          <p:cNvPicPr/>
          <p:nvPr/>
        </p:nvPicPr>
        <p:blipFill>
          <a:blip r:embed="rId1"/>
          <a:stretch/>
        </p:blipFill>
        <p:spPr>
          <a:xfrm>
            <a:off x="5867280" y="1371600"/>
            <a:ext cx="3276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The Presidency of Barack H. Obama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January 20, 2009: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 Barack Obama became President of the United States of Americ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Barack Obama (Democrat), 44th American President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Years in Office: 2009-Pres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5" descr="Barack-Obama-Portrait-First-Term.jpg"/>
          <p:cNvPicPr/>
          <p:nvPr/>
        </p:nvPicPr>
        <p:blipFill>
          <a:blip r:embed="rId1"/>
          <a:stretch/>
        </p:blipFill>
        <p:spPr>
          <a:xfrm>
            <a:off x="6172200" y="1981080"/>
            <a:ext cx="2971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United States Surgeon General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vember 3, 2009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airhope High Scho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duate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r. Regina Benjam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ecame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rgeon-General of the United Stat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220px-Regina_Benjamin_official_portrait.jpg"/>
          <p:cNvPicPr/>
          <p:nvPr/>
        </p:nvPicPr>
        <p:blipFill>
          <a:blip r:embed="rId1"/>
          <a:stretch/>
        </p:blipFill>
        <p:spPr>
          <a:xfrm>
            <a:off x="5334120" y="182880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iner Hand ITC"/>
              </a:rPr>
              <a:t>Mark Ingram</a:t>
            </a:r>
            <a:r>
              <a:rPr b="0" lang="en-US" sz="4200" spc="-1" strike="noStrike">
                <a:solidFill>
                  <a:srgbClr val="ffffcc"/>
                </a:solidFill>
                <a:latin typeface="Viner Hand ITC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cember 12, 2009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abama's Mark Ingra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on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isman Troph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Mark-Ingram-Heisman-Trophy-2009.jpg"/>
          <p:cNvPicPr/>
          <p:nvPr/>
        </p:nvPicPr>
        <p:blipFill>
          <a:blip r:embed="rId1"/>
          <a:stretch/>
        </p:blipFill>
        <p:spPr>
          <a:xfrm>
            <a:off x="4648320" y="1905120"/>
            <a:ext cx="4495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Tahoma"/>
              </a:rPr>
              <a:t>New Decade</a:t>
            </a:r>
            <a:r>
              <a:rPr b="0" lang="en-US" sz="42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38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anuary 1, 2010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beginning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w year and a new deca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ere celebrated i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ng Kong, China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2010-Hong-Kong-New-Year.jpg"/>
          <p:cNvPicPr/>
          <p:nvPr/>
        </p:nvPicPr>
        <p:blipFill>
          <a:blip r:embed="rId1"/>
          <a:stretch/>
        </p:blipFill>
        <p:spPr>
          <a:xfrm>
            <a:off x="5181480" y="1752480"/>
            <a:ext cx="3962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Surreal"/>
              </a:rPr>
              <a:t>Alabama Wins a BCS National Title</a:t>
            </a:r>
            <a:r>
              <a:rPr b="0" lang="en-US" sz="3800" spc="-1" strike="noStrike">
                <a:solidFill>
                  <a:srgbClr val="ffffcc"/>
                </a:solidFill>
                <a:latin typeface="Surreal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anuary 7, 2010: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ormer Foley High School star, Julio Jones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help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labama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cap off a perfect season and a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CS Championship.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5" descr="Julio-Jones-2010-BCS-National-Championship-Game_photo_medium.jpg"/>
          <p:cNvPicPr/>
          <p:nvPr/>
        </p:nvPicPr>
        <p:blipFill>
          <a:blip r:embed="rId1"/>
          <a:stretch/>
        </p:blipFill>
        <p:spPr>
          <a:xfrm>
            <a:off x="5095800" y="1828800"/>
            <a:ext cx="4048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"Stocks tanked Wednesday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240" y="22860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ahoma"/>
              </a:rPr>
              <a:t>The first trading day of 2008, as oil and gold prices at record highs and a report showing contraction in the manufacturing sector raised worries about the threat of recession.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Showcard Gothic"/>
              </a:rPr>
              <a:t>State of the Union Address</a:t>
            </a:r>
            <a:r>
              <a:rPr b="0" lang="en-US" sz="4200" spc="-1" strike="noStrike">
                <a:solidFill>
                  <a:srgbClr val="ffffcc"/>
                </a:solidFill>
                <a:latin typeface="Showcard Gothic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anuary 27, 2010: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President Obama gave his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State of the Unio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message to a joint-session of Congres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5" descr="Obama-SOTU-27Jan2010-Biden-Pelosi.jpg"/>
          <p:cNvPicPr/>
          <p:nvPr/>
        </p:nvPicPr>
        <p:blipFill>
          <a:blip r:embed="rId1"/>
          <a:stretch/>
        </p:blipFill>
        <p:spPr>
          <a:xfrm>
            <a:off x="4724280" y="1905120"/>
            <a:ext cx="4419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Snap ITC"/>
              </a:rPr>
              <a:t>Super Bowl XLIV:</a:t>
            </a:r>
            <a:r>
              <a:rPr b="0" lang="en-US" sz="4200" spc="-1" strike="noStrike">
                <a:solidFill>
                  <a:srgbClr val="cc0000"/>
                </a:solidFill>
                <a:latin typeface="Snap ITC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105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ahoma"/>
              </a:rPr>
              <a:t>DAT?! New February 7, 2010: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Tahoma"/>
              </a:rPr>
              <a:t>WHO Orleans Saints won Super Bowl XLIV, defeating the Indianapolis Colts, 31 to 17.</a:t>
            </a: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5" descr="Super-Bowl-XLIV-Pierre-Thomas-7FEB2010.jpg"/>
          <p:cNvPicPr/>
          <p:nvPr/>
        </p:nvPicPr>
        <p:blipFill>
          <a:blip r:embed="rId1"/>
          <a:stretch/>
        </p:blipFill>
        <p:spPr>
          <a:xfrm>
            <a:off x="4800600" y="205740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Winter Olympic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410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ahoma"/>
              </a:rPr>
              <a:t>February 12, 2010: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 In the 2010 Winter Olympics held in Vancouver, Canada, the opening ceremony launched the gam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Vancouver-Olympics-Opening-Ceremony-12Feb2010.jpg"/>
          <p:cNvPicPr/>
          <p:nvPr/>
        </p:nvPicPr>
        <p:blipFill>
          <a:blip r:embed="rId1"/>
          <a:stretch/>
        </p:blipFill>
        <p:spPr>
          <a:xfrm>
            <a:off x="5334120" y="19051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Aubur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anuary 10, 2011: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ubur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capped off a perfect season to win th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CS National Championship.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AuburnSI.jpg"/>
          <p:cNvPicPr/>
          <p:nvPr/>
        </p:nvPicPr>
        <p:blipFill>
          <a:blip r:embed="rId1"/>
          <a:stretch/>
        </p:blipFill>
        <p:spPr>
          <a:xfrm>
            <a:off x="5715000" y="1981080"/>
            <a:ext cx="3429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China Acknowledged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486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ebruary 14, 2011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ina is acknowledged as the world's second largest economy behind the United State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5" descr="300px-Shanghaiviewpic1.jpg"/>
          <p:cNvPicPr/>
          <p:nvPr/>
        </p:nvPicPr>
        <p:blipFill>
          <a:blip r:embed="rId1"/>
          <a:stretch/>
        </p:blipFill>
        <p:spPr>
          <a:xfrm>
            <a:off x="5181480" y="1905120"/>
            <a:ext cx="3962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Snap ITC"/>
              </a:rPr>
              <a:t>The Killing of Osama Bin Laden</a:t>
            </a:r>
            <a:r>
              <a:rPr b="0" lang="en-US" sz="4200" spc="-1" strike="noStrike">
                <a:solidFill>
                  <a:srgbClr val="ffffcc"/>
                </a:solidFill>
                <a:latin typeface="Snap ITC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3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May 1, 2011: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President Barack Obama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announced that a U.S. intelligence and military operation had found and killed Al Qeada leader,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Osama Bin Laden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5" descr="P050111PS-0210.jpg"/>
          <p:cNvPicPr/>
          <p:nvPr/>
        </p:nvPicPr>
        <p:blipFill>
          <a:blip r:embed="rId1"/>
          <a:stretch/>
        </p:blipFill>
        <p:spPr>
          <a:xfrm>
            <a:off x="5105520" y="20574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Barack Obama Starts Strong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3200" y="1901880"/>
            <a:ext cx="75423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anuary 3, 2008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nator Barack Obama of Illino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n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owa Caucus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feating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nator Hillary Clint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ahoma"/>
              </a:rPr>
              <a:t>Ted Kennedy's Endorsement of Barack Obama</a:t>
            </a:r>
            <a:r>
              <a:rPr b="0" lang="en-US" sz="3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07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January 28, 2008: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In a move that enhanced the stature of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Barack Obama's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candidacy,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Senator Ted Kennedy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endorsed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Senator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Obama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instead of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Senator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Hillary Rodham Clinton.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6" descr="Ted-Kennedy-Endorses-Barack-Obama-28Jan2008.jpg"/>
          <p:cNvPicPr/>
          <p:nvPr/>
        </p:nvPicPr>
        <p:blipFill>
          <a:blip r:embed="rId1"/>
          <a:stretch/>
        </p:blipFill>
        <p:spPr>
          <a:xfrm>
            <a:off x="5791320" y="2514600"/>
            <a:ext cx="3352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President of Russia</a:t>
            </a: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May 7, 2008: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Dmitry Medvedev became President of Russia. Vladimir Putin, in turn, became Prime Minister of Russia on May 8, 2008.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Medvedev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served a four year term, leaving office in May 2012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Dmitry-Medvedev-President-of-Russia-7May2008-7May2012.jpg"/>
          <p:cNvPicPr/>
          <p:nvPr/>
        </p:nvPicPr>
        <p:blipFill>
          <a:blip r:embed="rId1"/>
          <a:stretch/>
        </p:blipFill>
        <p:spPr>
          <a:xfrm>
            <a:off x="5486400" y="2133720"/>
            <a:ext cx="3048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Summer Olympic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6019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August 8, 2008: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The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eople's Republic of China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hosted the 2008 Summer Olympics. The opening ceremony was held on August 8th. The 2008 Summer Olympic games lasted until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August 24, 2008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Olympic-Rings-symbol.png"/>
          <p:cNvPicPr/>
          <p:nvPr/>
        </p:nvPicPr>
        <p:blipFill>
          <a:blip r:embed="rId1"/>
          <a:stretch/>
        </p:blipFill>
        <p:spPr>
          <a:xfrm>
            <a:off x="6095880" y="2514600"/>
            <a:ext cx="3048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Summer Olympic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ina; Fireworks over the "Bird's Nest," the major Olympic Stadium in Beij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Beijing-China-8Aug2008-Olympics-opening-ceremony.jpg"/>
          <p:cNvPicPr/>
          <p:nvPr/>
        </p:nvPicPr>
        <p:blipFill>
          <a:blip r:embed="rId1"/>
          <a:stretch/>
        </p:blipFill>
        <p:spPr>
          <a:xfrm>
            <a:off x="4952880" y="2133720"/>
            <a:ext cx="4191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83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esumptive Democratic presidential nominee Barack Obama named Senator Joe Biden of Delaware as his vice presidential running ma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Obama-Biden-Ticket-23AUG2008.jpg"/>
          <p:cNvPicPr/>
          <p:nvPr/>
        </p:nvPicPr>
        <p:blipFill>
          <a:blip r:embed="rId1"/>
          <a:stretch/>
        </p:blipFill>
        <p:spPr>
          <a:xfrm>
            <a:off x="5477040" y="2590920"/>
            <a:ext cx="3666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ichelle Obama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ichelle Obama, wife of Senator Barack Obama, addresses the 2008 Democratic Convention in Denver, Colorado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Michelle-Obama-25Aug2008-Denver-Dem-Convention.jpg"/>
          <p:cNvPicPr/>
          <p:nvPr/>
        </p:nvPicPr>
        <p:blipFill>
          <a:blip r:embed="rId1"/>
          <a:stretch/>
        </p:blipFill>
        <p:spPr>
          <a:xfrm>
            <a:off x="5334120" y="1752480"/>
            <a:ext cx="38098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5:47:25Z</dcterms:created>
  <dc:creator>user</dc:creator>
  <dc:description/>
  <dc:language>en-US</dc:language>
  <cp:lastModifiedBy>Mark Leavins</cp:lastModifiedBy>
  <dcterms:modified xsi:type="dcterms:W3CDTF">2015-02-20T00:48:18Z</dcterms:modified>
  <cp:revision>5</cp:revision>
  <dc:subject/>
  <dc:title>"Stocks tanked Wednesday </dc:title>
</cp:coreProperties>
</file>